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DE0D-250E-4E61-883A-6928EDD7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7AE6-C6CB-400D-9940-0DDFCFF8630D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eek - 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B46-274A-41E7-8E27-E9F515CE516E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kis allow members to edit pages.  It is the perfect environment for collaboration.  The educational applications and implications are remark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 Euro + other SS, 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F9D-C9F2-4FD3-8DB6-5779D919F113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an:  Embeds podcasts, student have their own wikis – more for web sites – post work.  Students create collaborative study guides for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 of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my favorite uses:  outside of the classroom – don’t need computers in classroom to do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33D2-D4C0-4BE4-80D7-CB7E8ADFC685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ibil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Jobs co-founder of Ap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s.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ll share my thought on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C03-5B18-4A82-8724-DC87BB2C9E9B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28D-4A52-40C3-89A4-4ED8B663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6F9-40C0-4604-BB8C-1D11DC4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21C90-6236-451C-86B6-0DF7443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8EA0B-9579-4044-BD79-40C4609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6F846-E179-4999-ACB6-524E3C6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00EF2-3C75-458C-8E33-255CB4B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A1E84-82E0-4608-A155-CFABF96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26C4-DC2E-4B99-9DCE-7229B56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A42D-6876-42CA-B002-41045C8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E2500-02D9-4A9B-B6E0-1BDAB6A6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3E18E-E992-4143-978A-A69BEE0D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75B55-78AE-4FAE-8504-3DF2CCAE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8ED-5EED-447B-9A0E-A3601356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12FF5-D976-4B1F-9618-0146826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68EEC-8104-4354-8A2F-148FE33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6C918-C0C4-4E30-B125-07A8DE1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27501-7870-4EF7-ACE8-CAF3E00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F9C75-EBF2-4E0F-A0F3-20AE8773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36854-58D8-4ED5-9F44-0C24B6F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0D36C-F85C-4B45-8435-626B2C2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8F39B-4AC8-4CF7-838F-13C76D4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5FBEC-6AC3-4D7D-BED3-8A02C367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3A4DC-0990-4D1C-9094-6F12F046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A9D-E4AA-44D6-9810-E3EBE994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C641-B242-4892-9BD2-AB944AF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69C19-E78D-4C59-98E1-BCF894E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F8B5-CC74-4F37-B515-C89C6109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B7C6-1B8B-4532-B288-F40022F7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E6C7-5292-49C6-99D7-69EA747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1C9A8-4033-44EE-B9DE-E2C3766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84C1-1E0F-4B92-986F-8F6EAA92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2BA4E-1624-4E1B-BD69-D99A3A8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CB3B-1EBC-4155-8BE2-0055C69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89AF0-4013-4DC2-AF73-1879621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986-3CCD-47A5-AABB-1CD2C44F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41D3-C999-4826-AD36-6396762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5F170-41EB-4E49-B916-BFE062EF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E7705-FD6E-4FF1-BD99-B3CB6B29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D5608-9123-4626-B716-21791404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E7BEE-430E-4692-A09B-0D6F332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31C27-9E8D-413E-80DA-18FF1C5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6211B-6778-435A-8D89-79A4F94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1E1C8-2F34-4809-9653-4E35331F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D525C-3B48-4627-8911-796667D9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F4C4B-352D-4784-B5A0-19B99F5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0E4C-04D9-45A5-83EE-158FC146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05477-3D96-4255-AF77-E82E6A2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371E0-500A-4FFE-8A83-6044D04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171D1-16EE-4573-B335-B66E0D5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BA7FB-4ADB-413B-91FC-5D48BC70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147D7-6342-4727-B2E0-9D22F8B7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F7F6-308B-4482-9188-FD3871E6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1A7B-F66B-4CFA-BD0B-D77940E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3CA-4A8B-46D5-BCB9-E0AAF57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CBE0-28D0-4EFB-98D2-B8A6A918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454-06BF-47EC-B819-05486E9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FA-C3A7-4CE9-9CA1-75995B2A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1DD-E5F1-4FA3-A6F7-19F6F8C7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8D33-C4F5-4BF4-9E8A-E407E38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1736-9BA4-45BE-9B10-BA4AB94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EF2E-0E6A-40B2-8D1A-23DA37B7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91F-53CA-423A-8756-97394BCF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2CE8-2091-4DEF-A5E9-8597BF92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0091-1438-4078-A7DC-1485552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9F26-49CF-47E6-9001-2F50249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36DA-DEE9-4F53-B33A-33B2DD18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7101F-DFD7-46E2-B115-D31E7C53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43C-1758-4C8A-8886-70A5C0D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D49C-1C91-4556-A047-80F9E44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A6A5-DE54-4A31-B208-0577B8EF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D14A-FBD6-403E-896A-67B9226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5B41-0616-43ED-B5C3-D032821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7D7B-57E7-4027-A9C0-A12EBA3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F9D6-A333-46BF-B157-43957622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BD3D-0A84-460B-8A65-6C345DF4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4897-9CCB-44A1-95D2-7F6D7E5F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317E-0FD7-4648-B519-579C4F7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BD1F-19C3-406F-8769-3F6D023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30A-62DA-4EDF-865E-46F6FDA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91F4-3D05-49FB-92D5-46260A4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2F03-C0F6-4FC7-BEBC-9AF0867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5073-79DA-4F75-B884-0D44FAC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961C-28AE-4DA4-B333-7DB7590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5F7D-5F82-42E6-96E4-A6E301C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2F13-2D65-492A-ADFF-1420223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8DEB-2D5C-4303-8342-009C7EE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0111-740E-4A11-BE9E-829482E1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42A4-F77D-4ED4-9FF7-D4F8B545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78DB4-999A-45DA-890F-01686967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537-7BC9-4F4C-9343-77CEC102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BED9-0B60-4D29-9A95-C007104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8253-681B-4A09-AAA2-5B554C85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53AA-B325-435A-B907-79AFEA08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E2D5-5500-4F1D-9D6F-8AE43CCE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2DAC-AA58-46C4-BCC3-3D5E5F0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AA1C-4562-446D-BAF4-E89F921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F656-C861-4B14-8559-6051541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FC8E-3A5D-4FCA-8FA7-111232F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95F4-FA48-42BD-898A-268FE021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7EC5-26B2-421E-8A1C-BDA41041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5FE-4642-4DD5-8076-30C0531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5643-8ADB-426D-AA53-791BB184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155F-0D44-4918-A464-78A6F7F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CD4A-572D-4FA6-8ED4-CD5B711A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246D-E31C-4DC4-8E06-245568AA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87D20-2036-44D8-98DB-BC2826EF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3269-F6C0-4E3D-95FF-BBC43FA9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2FFB-10B9-4EF6-AC3A-38B24EF6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907C-E4D8-4673-8CAA-391BC09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1952-6C7A-4995-8543-79C0E69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6174-90A5-4F6E-A2E0-06D8305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3E7-108B-4219-AED7-4D10476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659B-99C2-4D3D-97AD-45C2A71F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E6891-61F1-46F2-A382-C1473C32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0DCA-8743-429A-937F-6CFCAF1D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0267-C192-4F00-8A8F-77964430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4301-9F06-426E-961D-550474D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8D5B-6A0B-4EAE-B77A-F31A2F39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3D79-2E87-4AA5-81F4-CA7E9D5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1E26-3B69-49D6-8135-8F25EDE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FC80-FFB5-40FD-A227-48B08B61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5DB3-7E41-4A02-877F-E40E03A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254-E901-460C-8B47-8164FF2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F7D8-869F-4E1C-BB23-1EDEF42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30E1D-D1C9-4882-A211-380511E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CFCE-6230-4ED5-83A5-844E29FF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9794E-A562-4C44-8615-7D04BAE2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22C5-E8E4-40D8-8339-36A815D3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D1BB-BA30-4B0B-9D01-3964B234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DC22-6836-42D1-94B5-9FCE4D6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D5B6E-2783-4CB1-B14B-4B5FBAD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A3F7B-F155-49F4-A700-40B85F7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B12EF-9537-4B28-8B96-39D8DC8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808-5502-43C1-BF9E-54344EC9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73421-D519-45AB-930A-DAF23C7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3794-00CE-406D-8AAD-4ECCEF4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9825-6B58-4E1A-AA99-7FF0D4A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27813-7E18-4662-822E-F7FD018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B925D-8A00-4D75-93AB-A61883A5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56B5-C9C3-477F-9B9B-A10D3F4F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03F0F-016E-49EC-8168-25792EA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51A12-C2C4-44DF-B8F1-63907704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B294C-BBAB-4BD2-A98D-4EC2816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5816F-F5FD-47D4-9BF6-E88456B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326-46A0-44E1-8AD4-70A79900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689-E200-4623-893E-3C41D030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9B0-1357-4CE0-8661-839DCC6F8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0024-508F-4042-A320-C85DE3B6213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5B3-33A9-43F0-B9E3-DB2B8A5A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F53-5867-4EF7-9811-D0BFB1E32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9150-C979-4A07-8371-12BB1B79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454-414B-4B34-BECE-3ADD7E76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9E4D-3C96-48EF-8003-999A73024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87D-C0A2-479E-8437-91E08C107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B7B6-A1C6-4350-9CE1-5DF3822A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3A8-CA19-43B8-94BE-D48A57A7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verso.co.nz/mw/index.php?title=The_Read-Write_Matrix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type of Web site that allows visitors to easily add, remove, or otherwise edit and change some available cont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llaborative Read/Write too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ki means Quick or Fast in Hawaiia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rd Cunningham created first wiki in 1995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Wikipedia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– largest encyclopedi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he read-write matrix of Web 2.0 tool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476440" y="18525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4"/>
          <p:cNvSpPr/>
          <p:nvPr/>
        </p:nvSpPr>
        <p:spPr>
          <a:xfrm>
            <a:off x="2133720" y="60958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7b89"/>
                </a:solidFill>
                <a:uFillTx/>
                <a:latin typeface="Times New Roman"/>
                <a:hlinkClick r:id="rId2"/>
              </a:rPr>
              <a:t>http://www.verso.co.nz/mw/index.php?title=The_Read-Write_Matri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mbedd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l types of media can be embedded: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mag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ide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las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SS feeds: news, blogs, podcasts, etc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edagogical potential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rlick lists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am collaboration,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assroom reference documents,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llaborative notebooks,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tory start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professional collaborati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P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ichardson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textboo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curriculum (South Africa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ndalism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istory of edits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ermissions and security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structor’s role – guide on the sid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kipedi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Wikipedia reliable for information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eve Jobs thinks so…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s. Encyclopedia Britannic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5" name="Picture 5" descr="Nohat-logo-nowords-bgwhite-200px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Your mission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a Wikispaces account:</a:t>
            </a:r>
            <a:br>
              <a:rPr sz="3200"/>
            </a:br>
            <a:r>
              <a:rPr b="0" lang="en-US" sz="20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http://www.wikispaces.com/site/for/teacher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sit our class wiki and request membershi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dit your page on our class wiki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the “sandbox” to pl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e your own wiki - protect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isit other’s wikis and request membershi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49:55Z</dcterms:modified>
  <cp:revision>104</cp:revision>
  <dc:subject/>
  <dc:title>Wik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